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345-7619-4512-A49C-8902A8E4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741-FE7E-4332-9C27-7FE31475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14D-B7E9-401F-9028-E36B682B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435-E759-4183-A1CF-1F621343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D16-0E0C-43E2-AC9B-EF32B835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F47-B011-4E0C-95AC-5D775058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69D-8152-4834-8740-57580CF0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807-2139-4876-A550-3DCEC1CE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133-3806-46F4-86B3-15BC2D4B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ACF-8056-42D2-AD6B-E5260C64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84D-F2CA-4503-9DF9-FCCABAA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F4B-3493-45F5-B9D3-1F4C245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8181-A38B-4C07-A7CA-7AD7FA59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1197000"/>
            <a:ext cx="4824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JOY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708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97708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05636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7690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20:43:50Z</dcterms:created>
  <dc:creator>Educating NZ</dc:creator>
  <dc:description/>
  <dc:language>en-US</dc:language>
  <cp:lastModifiedBy>Educating NZ</cp:lastModifiedBy>
  <dcterms:modified xsi:type="dcterms:W3CDTF">2007-04-26T06:49:17Z</dcterms:modified>
  <cp:revision>3</cp:revision>
  <dc:subject/>
  <dc:title>Slide 1</dc:title>
</cp:coreProperties>
</file>